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FB18-53F4-4DCF-9058-2EC6A2718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1FC7-A7C1-4195-A31A-CB2381FE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A361-CA86-4330-9EA8-E3A0CA907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153E-588F-4453-B5DF-55C884B5A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1DCF-A723-4340-89EC-8E8151B2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7433-2C28-4DC4-A5D1-3E7ED1FF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7DD5-FF25-4DC6-94CC-BF56BB85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7F4B-16F3-429C-A6BB-15B1F087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B9DD-DC93-452C-B3F8-07660407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57E2-FD4C-48BB-9F05-91264FB8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CE4B-BFF9-4547-BFEE-AB1BF8CA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FE32-284C-44A8-9DC1-A78AA9C6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0AC5-65C0-4D4D-8B60-74DF93E89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24Z</dcterms:modified>
  <cp:revision>5</cp:revision>
  <dc:subject/>
  <dc:title>Slide 1</dc:title>
</cp:coreProperties>
</file>